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F15-CB1E-4B86-8A0E-CFFD46A0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661-978C-4D04-BED4-E70CDCB1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462-C13B-417B-BD62-6E4DE5EA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1FA-993D-4A21-8FA0-5B5FA30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4FA-544B-4C4B-B442-2B965C0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4E2-847D-40B7-9825-B86549A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F6D-E6D7-4BCF-B4AC-B6A1DA5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9A5-2B51-4C12-9450-81E35EB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FA3-1366-4F10-9467-3AD7C26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493-BF50-43A9-B76B-55795D7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49D-F2BE-40D4-9D73-16DA230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A66-392E-40B4-95B6-16F56302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3E3-2797-4299-A306-6A114A39D2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Азотная кислота</a:t>
            </a:r>
            <a:br>
              <a:rPr sz="6000"/>
            </a:b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и ее со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91440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>
            <a:off x="380880" y="28195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меди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,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6"/>
          <p:cNvSpPr/>
          <p:nvPr/>
        </p:nvSpPr>
        <p:spPr>
          <a:xfrm>
            <a:off x="685800" y="2666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74680"/>
            <a:ext cx="830556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меди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 разбавленной азотной кислотой преимущественно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2514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6"/>
          <p:cNvSpPr/>
          <p:nvPr/>
        </p:nvSpPr>
        <p:spPr>
          <a:xfrm>
            <a:off x="91440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аммония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, кислорода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оксида азота(IV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фотографии 14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380880" y="4114800"/>
            <a:ext cx="76212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ксид, которому соответствует азотная кислота, – э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66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3808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уммы всех коэффициентов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 полном и сокращенном ионных уравнениях реакции между азотной кислотой и оксидом бария соответственно рав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2590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 9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 10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 9 и 5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12 и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7"/>
          <p:cNvSpPr/>
          <p:nvPr/>
        </p:nvSpPr>
        <p:spPr>
          <a:xfrm>
            <a:off x="380880" y="4114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уммы всех коэффициентов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 полном и сокращенном ионных уравнениях реакции между азотной кислотой и карбонатом кальция  соответственно рав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3581280"/>
            <a:ext cx="2438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10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 10 и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10 и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12 и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6"/>
          <p:cNvSpPr/>
          <p:nvPr/>
        </p:nvSpPr>
        <p:spPr>
          <a:xfrm>
            <a:off x="457200" y="3581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азотной кислоты с металлами никогд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6"/>
          <p:cNvSpPr/>
          <p:nvPr/>
        </p:nvSpPr>
        <p:spPr>
          <a:xfrm>
            <a:off x="380880" y="3505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меди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 концентрированной азотной кислотой преимущественно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2590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6"/>
          <p:cNvSpPr/>
          <p:nvPr/>
        </p:nvSpPr>
        <p:spPr>
          <a:xfrm>
            <a:off x="457200" y="19810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калия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6"/>
          <p:cNvSpPr/>
          <p:nvPr/>
        </p:nvSpPr>
        <p:spPr>
          <a:xfrm>
            <a:off x="380880" y="28954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нагревании и освещении азотной кислоты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30492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ртути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8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